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3.pct" ContentType="image/x-pict"/>
  <Override PartName="/ppt/media/image15.pct" ContentType="image/x-pict"/>
  <Override PartName="/ppt/media/image14.pct" ContentType="image/x-pict"/>
  <Override PartName="/ppt/media/image9.pct" ContentType="image/x-pict"/>
  <Override PartName="/ppt/media/image1.jpeg" ContentType="image/jpeg"/>
  <Override PartName="/ppt/media/image2.jpeg" ContentType="image/jpeg"/>
  <Override PartName="/ppt/media/image4.pct" ContentType="image/x-pict"/>
  <Override PartName="/ppt/media/image5.jpeg" ContentType="image/jpeg"/>
  <Override PartName="/ppt/media/image7.pct" ContentType="image/x-pict"/>
  <Override PartName="/ppt/media/image12.pct" ContentType="image/x-pict"/>
  <Override PartName="/ppt/media/image6.pct" ContentType="image/x-pict"/>
  <Override PartName="/ppt/media/image8.pct" ContentType="image/x-pict"/>
  <Override PartName="/ppt/media/image13.pct" ContentType="image/x-pict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03A2-D59B-408F-B5F5-1F548BE79D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Planning a tiered activity -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s for ABC kid dif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variation sheets/ disc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dout: tiered activities dep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Bloom’s revised tax plan frame, tiered assignment temp      ~ continu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dout smarts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handout w produc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MPER 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rno wks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a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valuate 1 in each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or good differentiated?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ant guidance can work with me, or independent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wks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l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r ch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hand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0716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29240" y="54468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5854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00716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29240" y="5709600"/>
            <a:ext cx="230616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4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7162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85440" y="4654080"/>
            <a:ext cx="7162920" cy="41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6000" y="57096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544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6000" y="5446800"/>
            <a:ext cx="349524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5440" y="5709600"/>
            <a:ext cx="7162920" cy="2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85440" y="4654080"/>
            <a:ext cx="7162920" cy="89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ontinuum%20of%20complexity.xls" TargetMode="External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rainstorming.co.uk/tutorials/scampertutorial.html" TargetMode="External"/><Relationship Id="rId3" Type="http://schemas.openxmlformats.org/officeDocument/2006/relationships/hyperlink" Target="http://www.brainstorming.co.uk/tutorials/scampertutorial.html" TargetMode="External"/><Relationship Id="rId4" Type="http://schemas.openxmlformats.org/officeDocument/2006/relationships/hyperlink" Target="http://www.brainstorming.co.uk/tutorials/scampertutorial.html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oe.in.gov/exceptional/gt/tiered_curriculum/welcome.html" TargetMode="External"/><Relationship Id="rId3" Type="http://schemas.openxmlformats.org/officeDocument/2006/relationships/hyperlink" Target="http://www.doe.in.gov/exceptional/gt/tiered_curriculum/welcome.html" TargetMode="External"/><Relationship Id="rId4" Type="http://schemas.openxmlformats.org/officeDocument/2006/relationships/hyperlink" Target="http://www.doe.in.gov/exceptional/gt/tiered_curriculum/welcome.html" TargetMode="External"/><Relationship Id="rId5" Type="http://schemas.openxmlformats.org/officeDocument/2006/relationships/image" Target="../media/image14.pct"/><Relationship Id="rId6" Type="http://schemas.openxmlformats.org/officeDocument/2006/relationships/hyperlink" Target="http://www.bcps.k12.md.us/Staff/index.asp" TargetMode="External"/><Relationship Id="rId7" Type="http://schemas.openxmlformats.org/officeDocument/2006/relationships/hyperlink" Target="http://www.bcps.k12.md.us/Staff/index.asp" TargetMode="External"/><Relationship Id="rId8" Type="http://schemas.openxmlformats.org/officeDocument/2006/relationships/hyperlink" Target="http://www.bcps.k12.md.us/Staff/index.asp" TargetMode="External"/><Relationship Id="rId9" Type="http://schemas.openxmlformats.org/officeDocument/2006/relationships/hyperlink" Target="http://www.bcps.k12.md.us/Staff/index.asp" TargetMode="External"/><Relationship Id="rId10" Type="http://schemas.openxmlformats.org/officeDocument/2006/relationships/hyperlink" Target="http://www.bcps.k12.md.us/Staff/index.asp" TargetMode="External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4989240"/>
            <a:ext cx="65883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Tiered Les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ednesday &amp; Thursday    1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41400" y="47242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racy Doni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tier a less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Reflect upon data with the final assessment in m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assessment &amp;/or Formative assessmen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ive/Objec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ized &amp;/or Common assessmen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nfuse your teaching style into a curriculum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priate for most students’ understanding &amp; ski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Create vari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Develop closure experiences through whole class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or Le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Show What Ya K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809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create variati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ep 6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u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om’s Revi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gnitiv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um of Complexity </a:t>
            </a:r>
            <a:r>
              <a:rPr b="0" lang="en-US" sz="20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73800" y="2955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99400" y="327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2497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differentiation that can help create good activ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s into general 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Intelligences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MP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http://www.brainstorming.co.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3"/>
              </a:rPr>
              <a:t>uk/tutorial/scampertutorial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4"/>
              </a:rPr>
              <a:t>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*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67520" y="3581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4952880" y="2235240"/>
            <a:ext cx="38862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children in the right t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Student 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124080" y="2743200"/>
            <a:ext cx="31482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deo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fferentiated Instruction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CD,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7400" y="2590920"/>
            <a:ext cx="5257800" cy="381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07600" y="6400800"/>
            <a:ext cx="25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www.flickr.com/photos/ pinprick/61807669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valuating Examp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with a partner to evaluate a sample of tiered les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a8756f"/>
                </a:solidFill>
                <a:uFillTx/>
                <a:latin typeface="Arial"/>
                <a:hlinkClick r:id="rId2"/>
              </a:rPr>
              <a:t>http://www.doe.in.</a:t>
            </a:r>
            <a:r>
              <a:rPr b="1" lang="en-US" sz="1400" spc="-1" strike="noStrike" u="sng">
                <a:solidFill>
                  <a:srgbClr val="a8756f"/>
                </a:solidFill>
                <a:uFillTx/>
                <a:latin typeface="Arial"/>
                <a:hlinkClick r:id="rId3"/>
              </a:rPr>
              <a:t>gov/exceptional/gt/tiered_curriculum/welcome</a:t>
            </a:r>
            <a:r>
              <a:rPr b="1" lang="en-US" sz="1400" spc="-1" strike="noStrike" u="sng">
                <a:solidFill>
                  <a:srgbClr val="a8756f"/>
                </a:solidFill>
                <a:uFillTx/>
                <a:latin typeface="Arial"/>
                <a:hlinkClick r:id="rId4"/>
              </a:rPr>
              <a:t>.htm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209680" y="3048120"/>
            <a:ext cx="4826160" cy="3225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11080" y="6324480"/>
            <a:ext cx="22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6"/>
              </a:rPr>
              <a:t>www.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7"/>
              </a:rPr>
              <a:t>bcps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8"/>
              </a:rPr>
              <a:t>.k12.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9"/>
              </a:rPr>
              <a:t>md</a:t>
            </a:r>
            <a:r>
              <a:rPr b="0" lang="en-US" sz="1000" spc="-1" strike="noStrike" u="sng">
                <a:solidFill>
                  <a:srgbClr val="a8756f"/>
                </a:solidFill>
                <a:uFillTx/>
                <a:latin typeface="Arial"/>
                <a:hlinkClick r:id="rId10"/>
              </a:rPr>
              <a:t>.us/ Staff/index.asp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t’s try it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1960" y="2752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21240" y="1676520"/>
            <a:ext cx="73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ork in a group or pair that “makes sense” to your topic or grade level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28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8480" y="228600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d4d4d"/>
                </a:solidFill>
                <a:latin typeface="Arial"/>
              </a:rPr>
              <a:t>Planning a Tiered Activity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514600" y="32767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433560" y="6172200"/>
            <a:ext cx="270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www.ourfixerupper.com/ designer-ladder.ht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ement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expectation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gnitive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ychomotor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 skill &amp; physical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, run, small motor skil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ive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itude &amp; Behavior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emotions &amp; expressin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nagement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check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ive assess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s 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practice is always benefici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ers, bulletin boards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-assessmen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ncept M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5880" y="2438280"/>
            <a:ext cx="277812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838080" y="2413080"/>
            <a:ext cx="4648320" cy="3359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5880" y="617220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www.cals.vt.edu/.../ jan2007/concepts.htm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1ac5"/>
                </a:solidFill>
                <a:uFillTx/>
                <a:latin typeface="Arial"/>
              </a:rPr>
              <a:t>classroomtech.wordpress.com/.../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tudents awar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ifferentiation looks like in your ro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arents aware of all of these abov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ning of the year booklet/newsl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 to school nigh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communication from your ro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 calls or e-m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ing on the pa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5410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i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successfully tier a lesson of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31000" y="254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437920" y="4989240"/>
            <a:ext cx="658836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Tiered Less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30556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33314"/>
                </a:solidFill>
                <a:latin typeface="Arial"/>
              </a:rPr>
              <a:t>Franklin Summer Academ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33314"/>
                </a:solidFill>
                <a:latin typeface="Arial"/>
              </a:rPr>
              <a:t>June 16 - June 19, 2009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1320" y="54864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ednesday &amp; Thursday    1:00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rge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5410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i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successfully tier a lesson of you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31000" y="254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260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ier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essential knowledge &amp; skills via different paths for students to travel to arrive at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gotsky (1962)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roximal developme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essment and instr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ingore, 200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re ways information is introduced to the brain, more dendrit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thw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ccess are created to enhance memory (Willis, 200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should you use tier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627200"/>
            <a:ext cx="52578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yoursel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en am I really learn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0360" y="2666880"/>
            <a:ext cx="80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When the difficulty of the task or skill is just slightly above where you are now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981080" y="3048120"/>
          <a:ext cx="4648320" cy="274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3048120"/>
                    <a:ext cx="4648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5867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r tiered assignments to be relevant, significant learning, they must add depth and breadth to each student’s understanding of essential questions.” </a:t>
            </a:r>
            <a:r>
              <a:rPr b="0" i="1" lang="en-US" sz="1400" spc="-1" strike="noStrike">
                <a:solidFill>
                  <a:srgbClr val="4d4d4d"/>
                </a:solidFill>
                <a:latin typeface="Arial"/>
              </a:rPr>
              <a:t>Diane Heacox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26480" y="5638680"/>
            <a:ext cx="36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http://www.wilmette39.org/DI39/iagc05tier/TieredStrategy2.ht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should you use tiering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579096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the optimal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64911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93720" y="6400800"/>
            <a:ext cx="36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http://www.wilmette39.org/DI39/iagc05tier/TieredStrategy2.htm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66680" y="2286000"/>
          <a:ext cx="7315200" cy="377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286000"/>
                    <a:ext cx="73152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needs tiered less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26840"/>
            <a:ext cx="571500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already mastered the bas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revisit the bas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ready to apply the basic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and respond bes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sthe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o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5880" y="2362320"/>
          <a:ext cx="2757600" cy="3047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362320"/>
                    <a:ext cx="27576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n should you use tiered lesson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627200"/>
            <a:ext cx="86868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ad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lexity &amp; dep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om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’ve introduced a new concept and students are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t pl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i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all students to read a particular piece of literature and you know they will respond a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ferent lev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ant to give students an opportunity to show what they’ve learned usin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ir prefer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lligence or learning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6360" y="399600"/>
            <a:ext cx="7056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tier a less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ndard(s) you’re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ide on your target: KU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how students will demonstrate learning achievement (summative assess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s most applicable to demonstrating 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intro-level for whole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3:03:30Z</dcterms:created>
  <dc:creator>PoweredTemplates.com</dc:creator>
  <dc:description/>
  <dc:language>en-US</dc:language>
  <cp:lastModifiedBy>Franklin</cp:lastModifiedBy>
  <cp:lastPrinted>2009-06-12T17:28:29Z</cp:lastPrinted>
  <dcterms:modified xsi:type="dcterms:W3CDTF">2009-06-12T17:39:05Z</dcterms:modified>
  <cp:revision>90</cp:revision>
  <dc:subject/>
  <dc:title>PowerPoint Template</dc:title>
</cp:coreProperties>
</file>